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204-2F92-4197-9C97-F6308C32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300-4F2E-422B-9B50-83296AC4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4FB-A02D-4929-8BEE-9999B223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E45-8487-422F-BAD4-59D5F504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5208-722F-4EB1-9705-95F5F571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0E07-9019-49E7-81AE-FB2BDECA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08A0-E19A-4E6C-8A4C-CA847CE1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AB99-D0AB-4E81-B4BD-6005A438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C0D3-B7F0-496B-8ABF-426FB564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E10A-A039-4580-9051-9DDCEEA1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63C3-69CA-46B1-AE9B-A1727C0B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3B3-9C6C-4CED-9326-A44CC784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6DA5-5E5F-4837-9721-962D42B5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64D9-1547-438D-B412-43BE8ADE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2012-5971-4570-908D-6D06D9D8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D79D-6560-47C7-8706-7862F8B2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26AA-8E21-4C1B-B5C9-CCE0664F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906-F7E2-46CC-8555-40D02306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C35-CF2E-4CAC-91C8-53FBA68A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106-14DA-4DE8-8304-6F655D71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DA2-32D3-49BF-977D-C8C54941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9F2-DA29-4E3C-B4DE-6413A1D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080-0CFC-4B3E-903B-AC6FB7A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BCA-7113-4CDC-BA89-3CFB3F79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289CA8-F750-464D-A32B-DCD2DFBBF2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5C1BC-83DE-4564-87DD-E13E69588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763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it Question:  Under what conditions is it acceptable to rebel against your government 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25520"/>
            <a:ext cx="77724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Rebellion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  An intentional refusal to obey the recognized author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bellion” includes a wide range of action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is unit, we will explore and evaluate some specific acts of rebellion against the govern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Protest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  A public expression of opposition to an event or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some of the pros and cons of protesting to get your views hear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Civil Disobedienc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  An active refusal to obey a specific la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Disobedience has long been considered an “acceptable” form of rebell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“civil disobedience,” 5 conditions must be me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ituation being protested must be a violation of one’s natural or civil r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legal means to change the situation have been tried without su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test cannot be self-ser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test must be peace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testers willingly accept the consequences of their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Terrorism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  Violent acts meant to create fear among the general public in order to achieve a political go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2:59:17Z</dcterms:created>
  <dc:creator>Dominic Lambek</dc:creator>
  <dc:description/>
  <dc:language>en-US</dc:language>
  <cp:lastModifiedBy>Dominic Lambek</cp:lastModifiedBy>
  <dcterms:modified xsi:type="dcterms:W3CDTF">2008-11-03T01:31:13Z</dcterms:modified>
  <cp:revision>3</cp:revision>
  <dc:subject/>
  <dc:title>Unit Question:  Under what conditions is rebellion against the government acceptable?</dc:title>
</cp:coreProperties>
</file>